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C2C-CA80-4381-9FD7-13DC1FAD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8EB-F020-46FD-8200-B3EE3DF5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839-2A81-470E-BE96-3BC0B235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CD9-22FD-44F6-B539-AC3F5D56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984-D456-462F-A89F-F37B6007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5700-8C1E-42BD-971E-93498FA6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9CC2-E2ED-4AEE-AB4C-198EF394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7031-085E-447F-B509-44EC3300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1BD2-2C7C-42F4-BDF7-A54B75D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1F80-2003-4B20-B37D-26CFC77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C7D6-8940-4DF0-859F-45113A0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480-878C-49D8-ACDA-BFCFAF32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B9BC-7E3C-4EB1-B995-B109355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0C4A-9D42-4185-A2B9-797259A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197A-ADD8-4602-B850-935B457E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0944-3FD8-41DE-8CDA-FDA2641D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0B9-5541-4C6F-8344-C7A13FC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6F628-4F5E-4747-BAD7-B2511DB0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71EC7-8105-4170-8500-C9A7B4F9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55725-A388-4EC9-8F41-A2EE581A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362DC-44F7-49D0-AB36-0BDAD33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A1162-C5AE-4437-909D-346CCB7F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403-DCA7-4D12-8DF5-7CC68F85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283B6-D5EA-4235-8D04-26A0E197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717F2-05CB-43B2-B762-10973F0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019E4-625D-4EF1-B8E4-51FB9B9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A2E57-BE5A-4493-B077-FA76E84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77731-75CF-4C5D-ABB0-E296C21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4F311-F2FF-47A7-94F9-A423F157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AC303-0173-48C1-BA67-4C672512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1B2E-DFEB-4989-96F1-75BB5DD4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7401-7C4B-4011-9139-E97C5C9C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F0E5-4420-4B44-A196-0B53FAC4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8D5-CE8E-44EF-B7AA-8ACE7CBA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140F-4678-4EEB-BFCF-84E0F41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57FE-A0E0-4055-8B77-3E77F028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7431-54FA-48EF-815F-9DD8F40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A233-CFB8-4CEA-A782-9452855C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E9B0-EAC2-48A3-8922-A1111D3C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CF6D-835F-4E71-BFB4-753C27A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B7789-86E5-4A33-8535-DEBF2F7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BC66-829D-4B5C-B3A4-D25CFD7E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C499-34DE-42A9-87F7-FCDAB997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437-6E3F-473F-89BE-886318D8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71C-1538-47AC-A675-D49E5FFA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AC1-1ECF-4276-BD6C-215D9F8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09-EF43-4140-94C4-6592BA4A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835-C375-4529-B313-AC7DED63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21C-764E-4B27-BC4B-2D49B9D71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6FD-2841-4CB1-9AD5-E0E1BC003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5FB-90CA-467E-89B0-06B6446A6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A8A6-835F-4D3A-A5CB-61F49AF94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United Kingdom of Great Britai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ales, Northern Ireland, Scotland, and Eng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d the last of Anglo-Saxon info  </a:t>
            </a:r>
            <a:r>
              <a:rPr b="0" lang="en-US" sz="4000" spc="-1" strike="noStrike">
                <a:solidFill>
                  <a:srgbClr val="424456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rc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amilies usually provided for themselv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apmen – peddl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tera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onks – spent almost all of their daylight hours copying manuscripts by hand in a scriptorium (writing room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cop (or bard) – skilled storytellers who sang of gods and heroes; were revered as much as warrio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agar the Horrib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1154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berians (Old &amp; New Stone Age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first people to live in Engl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ysical characteristic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hor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ark hair and sk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Knew how to make bronze (an allo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nehenge – from the Saxon, meaning “hanging ston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y have been used by Druids for religious rites dealing with the lunar &amp; solar cycl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elts (Approx. 600 BC – 55 BC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hysical characteristic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all, blond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rrio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ured ham, kept bees, made wooden barrel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killed artisans who introduced the use of iron to Europ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Had a legal system that specified individual righ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oad – a blue dy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elts would dye their bodies to give themselves a terrifying appearance in battle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Cel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imism – religion of Cel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aw spirits in everything (rivers, trees, stones, fir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spirits controlled all aspects of existence and had to be constantly satisfi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uids – pries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cted as intermediaries between gods and people; they sometimes called for ritual dances or sacrific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omans (Approx. 55 BC – 400 A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ginning of Christian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ulius Caesar – 55 B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quered Gaul (a region of Western Europe comprising present day northern Italy, France, Belgium, Switzerland, and parts of the Netherlands and German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n he sailed across the English Channel to learn about Britai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Roma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ibution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oads (5000 miles of stone road, some still in use toda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ll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illa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Great public bath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drian’s Wal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 73-mile long defensive wall linking the North Sea &amp; the Atlantic; separated England &amp; Scotla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omans left in 410 AD because of problems in Rome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glo-Saxons (450 A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rmanic invaders:  Angles, Saxons, Ju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fred the Grea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ed Angles, Saxons, Jutes against the invading Danes (Vikings) uniting Anglo-Saxon Englan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ved interest in learning and in the English langu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. August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verted England to Christianity the second time by converting the Jute k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about Anglo-Sax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Anglo-Saxon Chronicle – a lengthy running history of England instituted by Alfred the Great.  Because of his efforts, English began to gain respect as a langua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ass structur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rls – free m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urls – unfree men (slaves or tenant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nd more about Anglo-Sax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festyl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ERY SOCIAL!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ead – drink of fermented honey, malt, &amp; spic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Mead hall – center of family life; fire in the center; dias at one e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ntertainment: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Women – needlework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Men – played chess &amp; backgammon; enjoyed fishing, hunting, gambling, drinking, &amp; fighting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Food – meat &amp; fish; primary vegetable – cabbag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Dinner would last for several hours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0:02:27Z</dcterms:created>
  <dc:creator>pcoles</dc:creator>
  <dc:description/>
  <dc:language>en-US</dc:language>
  <cp:lastModifiedBy>pcoles</cp:lastModifiedBy>
  <dcterms:modified xsi:type="dcterms:W3CDTF">2009-01-07T13:17:39Z</dcterms:modified>
  <cp:revision>13</cp:revision>
  <dc:subject/>
  <dc:title>The United Kingdom of Great Britain</dc:title>
</cp:coreProperties>
</file>